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1E9-A7FE-4CB2-A89E-58F133E6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280" y="382284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0E0-B909-44D0-A8EF-459C3AB0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28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180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4D2-53A3-4B7E-B6B4-D1F270386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41000" y="83772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30080" y="83772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280" y="382284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41000" y="382284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30080" y="382284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FAF7-CEC9-4031-83B1-9F64C7F22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1AA1-63BB-496D-B7F7-1F5EC1BA8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CB6CA-A727-4493-9422-B6E5075BF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3CCB-9C5A-4475-98CC-D21FE839B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FE06-A307-4073-8994-453176664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5C7A0-A75A-47AD-A8BC-FBCB30BD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4F20A-E67C-408B-AAF1-F447346C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28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7FB64-3484-4025-B9AE-F61CDCCB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C934-FB5F-41CD-8C21-F70794C8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180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6B67-5F79-4CB5-9E7D-783D4450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280" y="382284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B7E9-E9E3-4834-9EEB-3597E935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280" y="382284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6F098-6F1E-41D0-91C7-161827ACB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28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180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F1209-097A-48A8-9118-F9AEBF62E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41000" y="83772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30080" y="83772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280" y="382284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41000" y="382284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30080" y="3822840"/>
            <a:ext cx="28461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1BFBD-007C-4500-828C-C7320BB0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FE49-C5F1-4AAE-AC02-24CDCF8EE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6D57-C28E-41B7-AF69-D7D7F3F4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381D-47E2-4154-AE76-EB31A9DAE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7668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B488C-0CA6-4B6A-815F-C7CE037CB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28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FFCF-1943-41D7-8495-94B914FF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1800" y="382284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049-5869-457D-946A-07567746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28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800" y="837720"/>
            <a:ext cx="431352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280" y="3822840"/>
            <a:ext cx="883944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F7AB-D5BB-48BB-8EE1-321C7FF5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837720"/>
            <a:ext cx="88394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0FA0D-0E33-44D2-B5AD-70A191B3E5B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7524720" y="6237360"/>
            <a:ext cx="129528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259092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9B1F-A4E0-44C6-8528-9331EB586E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algn="ctr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47280" y="3284640"/>
            <a:ext cx="7596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Globalni barometar korupcije i Srbija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979640" y="4365720"/>
            <a:ext cx="5905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fd2f87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fd2f87"/>
                </a:solidFill>
                <a:latin typeface="Tahoma"/>
              </a:rPr>
              <a:t>ransparency International</a:t>
            </a:r>
            <a:r>
              <a:rPr b="0" lang="sr-Latn-CS" sz="2400" spc="-1" strike="noStrike">
                <a:solidFill>
                  <a:srgbClr val="fd2f87"/>
                </a:solidFill>
                <a:latin typeface="Tahoma"/>
              </a:rPr>
              <a:t> &amp;</a:t>
            </a:r>
            <a:r>
              <a:rPr b="0" lang="en-US" sz="2400" spc="-1" strike="noStrike">
                <a:solidFill>
                  <a:srgbClr val="fd2f87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d2f87"/>
                </a:solidFill>
                <a:latin typeface="Tahoma"/>
              </a:rPr>
              <a:t>Gallup</a:t>
            </a:r>
            <a:r>
              <a:rPr b="0" lang="sr-Latn-CS" sz="2400" spc="-1" strike="noStrike">
                <a:solidFill>
                  <a:srgbClr val="fd2f87"/>
                </a:solidFill>
                <a:latin typeface="Tahoma"/>
              </a:rPr>
              <a:t> Internationa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2268360" y="1413000"/>
            <a:ext cx="36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2ca5"/>
                </a:solidFill>
                <a:latin typeface="Arial"/>
              </a:rPr>
              <a:t>T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rcRect l="0" t="0" r="50279" b="43077"/>
          <a:stretch/>
        </p:blipFill>
        <p:spPr>
          <a:xfrm>
            <a:off x="1187280" y="1341360"/>
            <a:ext cx="1152720" cy="10461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1640" y="14130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5f5f5f"/>
                </a:solidFill>
                <a:latin typeface="Verdana"/>
              </a:rPr>
              <a:t>Med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5f5f5f"/>
                </a:solidFill>
                <a:latin typeface="Verdana"/>
              </a:rPr>
              <a:t>GALL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>
            <a:lum contrast="-12000"/>
          </a:blip>
          <a:stretch/>
        </p:blipFill>
        <p:spPr>
          <a:xfrm>
            <a:off x="4572000" y="1484280"/>
            <a:ext cx="3813120" cy="78120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skustvo gra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đana sa korupcijom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širom sveta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11280" y="2205000"/>
          <a:ext cx="7777080" cy="3960720"/>
        </p:xfrm>
        <a:graphic>
          <a:graphicData uri="http://schemas.openxmlformats.org/drawingml/2006/table">
            <a:tbl>
              <a:tblPr/>
              <a:tblGrid>
                <a:gridCol w="1800000"/>
                <a:gridCol w="1152720"/>
                <a:gridCol w="4824360"/>
              </a:tblGrid>
              <a:tr h="33732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skustvo (lično ili bližnjih) sa davanjem mita u poslednjih 12 meseci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 DA (%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gra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đ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mer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-5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--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-4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en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ja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Lit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anija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Mold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vija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Niger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-3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lban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r>
                        <a:rPr b="1" lang="it-IT" sz="1200" spc="-1" strike="noStrike">
                          <a:solidFill>
                            <a:srgbClr val="cc0099"/>
                          </a:solidFill>
                          <a:latin typeface="Tahoma"/>
                        </a:rPr>
                        <a:t>,</a:t>
                      </a:r>
                      <a:r>
                        <a:rPr b="1" lang="sr-Latn-CS" sz="1200" spc="-1" strike="noStrike">
                          <a:solidFill>
                            <a:srgbClr val="cc0099"/>
                          </a:solidFill>
                          <a:latin typeface="Tahoma"/>
                        </a:rPr>
                        <a:t> Srbija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Boliv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,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k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Republ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E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v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dor, Gana,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ipini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R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, Rus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, Ukra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2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H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Brazil,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sta R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, Eg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, Gr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čk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G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temala, Ind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, Indone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, Kosovo, L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tonij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Me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s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, Pakistan, Peru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1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rgentina, B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ar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k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,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rvatsk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Eston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,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užn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Kore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, G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uzij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Ma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don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, Pol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sk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Tur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Urug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Vene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ela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9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str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,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ada, D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ska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Fin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ka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Franc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ska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emačka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Hong Kong, 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land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Ir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ka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el, Ital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ja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Japan, Lu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s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burg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Malezija, Holandija, Portugal, Singapur, Južna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Afri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,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panija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Švajcarska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 Ta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v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, UK, USA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 flipV="1">
            <a:off x="2556000" y="2349360"/>
            <a:ext cx="142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56000" y="551664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1052640"/>
            <a:ext cx="842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Prosečan G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obalni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 Barometar Korupcije (GCB) 2004. godine je </a:t>
            </a:r>
            <a:r>
              <a:rPr b="1" lang="sr-Latn-CS" sz="1400" spc="-1" strike="noStrike">
                <a:solidFill>
                  <a:srgbClr val="cc0099"/>
                </a:solidFill>
                <a:latin typeface="Verdana"/>
              </a:rPr>
              <a:t>10%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u proseku, svaki deseti građanin sveta je imao neposredno (lično ili nekoga iz porodice) iskustvo sa korupcijom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– dao mito u bilo kom obli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rađan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 Srbije dosta iznad prosečne vrednosti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(27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Očekivanja u Srbiji: Da li ć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 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stepen korupcije promen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i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u naredne tri godine?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4360" y="620640"/>
          <a:ext cx="7777080" cy="5330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620640"/>
                    <a:ext cx="777708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468360" y="5229360"/>
            <a:ext cx="8300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Većina građana Srbije ne očekuje bitne promene u stepenu korupcije u naredne tri god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Četvrtina građana očekuje porast; dok ukupno 13%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gra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đana očekuje pad stepena korupci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Očekivanja o stepenu korupcije u naredne tri godine- zemlje u regionu i šire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8000" y="1197000"/>
          <a:ext cx="6156360" cy="5216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97000"/>
                    <a:ext cx="6156360" cy="521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6227640" y="3213000"/>
            <a:ext cx="2737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U Italiji najveći pesimiz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Na Kosovu najveći optimiz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U Srbiji i Albaniji uglavnom se ne očekuju promene u stepenu korupci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 ist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raživanju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9636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Sprovedeno u okviru redovnog mesečnog ispitivanja javnog mnenja Srbije; Deo intervjua posvećen ispitivanju mišljenja građana o korupciji (o tzv “sitnoj i krupnoj” korupciji, uticaju korupcije na različite sfere, prisutnosti u pojedinim institucijama, iskustvu i očekivanjima građana o stepenu korupcije u naredne tri godine)</a:t>
            </a:r>
            <a:br>
              <a:rPr sz="1800"/>
            </a:b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Terenski deo istraživanja: od 16. do 21.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cembr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2004. godin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Metod: direktni strukturisani intervju, licem u lic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Nacionalno reprezentativni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z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or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00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0 punoletnih građana Srbije, odabranih metodom sistematskog slučajnog izbora. Reprezentativnost uzorka omogućuje da se dobijeni rezultati prošire na celokupnu populaciju punoletnih građana Srbije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Transparency International (TI), u saradnji sa Gallup International, krajem godine je sproveo istraživanje javnog mnenja o korupciji – tzv. Globalni barometar korupcije (</a:t>
            </a:r>
            <a:r>
              <a:rPr b="1" lang="sr-Latn-CS" sz="1400" spc="-1" strike="noStrike">
                <a:solidFill>
                  <a:srgbClr val="ea00ad"/>
                </a:solidFill>
                <a:latin typeface="Verdana"/>
              </a:rPr>
              <a:t>GCB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). Studija je rađena širom sveta, u ukupno 64 zemlje, ispitano je preko 60 000 ljudi. </a:t>
            </a:r>
            <a:br>
              <a:rPr sz="1400"/>
            </a:b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09b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Verdana"/>
              </a:rPr>
              <a:t>Reprezentativnost i uporedivost podataka sa rezultatima Globalnog barometra korupcije, omogućuje određivanje  položaja Srbije, kada je korupcija u pitanju,  u okruženju i u svetu.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Krupna i sitna” korupcija – problem ili ne?</a:t>
            </a:r>
            <a:br>
              <a:rPr sz="2800"/>
            </a:b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Javno m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</a:t>
            </a:r>
            <a:r>
              <a:rPr b="0" lang="sr-Latn-CS" sz="2000" spc="-1" strike="noStrike">
                <a:solidFill>
                  <a:srgbClr val="000000"/>
                </a:solidFill>
                <a:latin typeface="Verdana"/>
              </a:rPr>
              <a:t>enje Srbije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26920" y="1197000"/>
          <a:ext cx="7766280" cy="4424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26920" y="1197000"/>
                    <a:ext cx="776628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611280" y="5661000"/>
            <a:ext cx="763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Krupnu” korupciju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politi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čka, na visokom državnom nivou, među liderima i velikim kompanijama, ..) građani Srbije vide kao veći problem od “sitne” korupcije (svakodnevni život, pri obavljanju različitih usluga, 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Krupna i sitna” korupcija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116000" y="1989000"/>
          <a:ext cx="6912000" cy="4200840"/>
        </p:xfrm>
        <a:graphic>
          <a:graphicData uri="http://schemas.openxmlformats.org/drawingml/2006/table">
            <a:tbl>
              <a:tblPr/>
              <a:tblGrid>
                <a:gridCol w="1655640"/>
                <a:gridCol w="2521080"/>
                <a:gridCol w="27352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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građana koji misli da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rupcija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OPŠTE NIJE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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 građana koji misli da</a:t>
                      </a:r>
                      <a:r>
                        <a:rPr b="0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sr-Latn-C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 korupcija</a:t>
                      </a:r>
                      <a:r>
                        <a:rPr b="1" lang="sr-Latn-C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OMA VELIKI probl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9696"/>
                        </a:gs>
                        <a:gs pos="50000">
                          <a:srgbClr val="ffffff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161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“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tna”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orup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in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ka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52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gap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 4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ska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veška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ni Barometar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bija  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azil 8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va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r 7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H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ur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ka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7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ni Barometar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bija   4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9696"/>
                        </a:gs>
                        <a:gs pos="50000">
                          <a:srgbClr val="ffffff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163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“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rupna” korup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ingap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u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 4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Fin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ka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nska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or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veška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ni Barometar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bija 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ccff"/>
                        </a:gs>
                        <a:gs pos="50000">
                          <a:srgbClr val="ffffff"/>
                        </a:gs>
                        <a:gs pos="100000">
                          <a:srgbClr val="ffccff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razil 9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E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kva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dor 8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Tur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ka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 8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B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iH; 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Nigeri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j</a:t>
                      </a: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 82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lobalni Barometar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Srbija    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969696"/>
                        </a:gs>
                        <a:gs pos="50000">
                          <a:srgbClr val="ffffff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1247400" y="1557360"/>
            <a:ext cx="66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Verdana"/>
              </a:rPr>
              <a:t>Zemlje sa najvećim brojem “bezbrižnih i zabrinutih” građ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Uticaj korupcije na različite sfere života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122480" y="1197000"/>
          <a:ext cx="6757920" cy="433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22480" y="1197000"/>
                    <a:ext cx="6757920" cy="433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755640" y="5589720"/>
            <a:ext cx="799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Verdana"/>
              </a:rPr>
              <a:t>Građani Srbije smatraju da je uticaj na politički i poslovni život značajno jači nego na njihov lični i porodični život.  Većina smatra da korupcija najviše utiče na politički život. Verovatno slabija iskustvena osnova (i slabija transparentnost) jača negativne stavove prema sferama u kojima se nema lično učešć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Lično i iskustvo bližnjih sa korupcijom </a:t>
            </a:r>
            <a:br>
              <a:rPr sz="2800"/>
            </a:b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Davanje mi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u Srbiji</a:t>
            </a:r>
            <a:r>
              <a:rPr b="0" lang="sr-Latn-C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58920" y="148428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48428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521360" y="5373720"/>
            <a:ext cx="638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Većina građana Srbije nije bila u prilici da daje mito u bilo kom oblik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27% građana je dalo mito u nekom obliku u poslednjih godinu d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395280" y="1773360"/>
          <a:ext cx="6259680" cy="453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773360"/>
                    <a:ext cx="6259680" cy="45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6372360" y="3933720"/>
            <a:ext cx="2305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Ne postoj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tatisti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č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ki 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značajne razlike u iskustvu sa davanjem mita između domaćinstava sa različitim mesečnim primanji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75960" y="925560"/>
            <a:ext cx="743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Mesečni prihod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 iskustvo sa davanjem m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Obrazovni nivo i iskustvo sa davanjem mita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332000" y="1125360"/>
          <a:ext cx="6519600" cy="448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125360"/>
                    <a:ext cx="651960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"/>
          <p:cNvSpPr/>
          <p:nvPr/>
        </p:nvSpPr>
        <p:spPr>
          <a:xfrm>
            <a:off x="1332000" y="5734080"/>
            <a:ext cx="626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Nema značajnih razlika u iskustvu sa davanjem mita između građana sa različitim nivoom obrazovan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1332000" y="981000"/>
          <a:ext cx="6514920" cy="4486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981000"/>
                    <a:ext cx="6514920" cy="44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Mesto stanovanja i iskustvo sa davanjem mita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"/>
          <p:cNvSpPr/>
          <p:nvPr/>
        </p:nvSpPr>
        <p:spPr>
          <a:xfrm>
            <a:off x="1042920" y="5516640"/>
            <a:ext cx="7199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Demografske karakteristike prihoda i obrazovanja ne koreliraju značajno sa davanjem mita. Stanovnici urbanih sredina su u poslednjih godinu dana bili u situaciji davanja mita (statistički značajno) češće nego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Verdana"/>
              </a:rPr>
              <a:t>stanovnici ruralnih sredin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09:13:48Z</dcterms:created>
  <dc:creator>Sladja</dc:creator>
  <dc:description/>
  <dc:language>en-US</dc:language>
  <cp:lastModifiedBy>User</cp:lastModifiedBy>
  <dcterms:modified xsi:type="dcterms:W3CDTF">2014-03-27T14:59:54Z</dcterms:modified>
  <cp:revision>121</cp:revision>
  <dc:subject/>
  <dc:title>GRAĐANI SRBIJE O KORUPCIJI</dc:title>
</cp:coreProperties>
</file>